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1EA-F962-4E5A-9A21-01200D26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60F-4222-4439-8279-FE41857A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FF0-6663-41D4-BB51-63C47B0C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8A2-3A32-4AAE-8FC8-D1E38DF4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C804-822E-4ACA-AD9A-89047310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8E7F-3A0B-4270-9043-E083C713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6364-4AF3-4B60-A137-4F9EF3A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C4AC-13DC-4601-9C59-D2CAF9EA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24FB-2A26-40A9-BAF7-90A51F25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F594-D72B-4E29-8D57-76EBD22E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FA5B-B53F-4328-AF12-268426D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14C-2B54-4F4A-9B33-10177216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4E4B-E16A-422C-9291-CC73E71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D29F-AF5B-4658-99D7-B0E37983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D7D7-B51F-4E51-8ED4-A0AC7EE4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9F6B-B5AC-4548-9F3E-31CC78DF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4A2D-B795-4C1A-BB02-051AFF6E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FFE-479B-4BDE-B94A-3FD3B173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6E4-2BC4-4584-92C7-D3BD97F2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C75-BD3D-46EA-B1A9-DE932E9F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45A-44D4-4BD0-8234-E3DFA6AD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E83-B907-48B9-AEED-7F49F40F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F0A-031F-41C9-8BEA-BBD2489F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CE0-5AD8-43BE-A805-E546A106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CD0B-2095-4F67-BA64-DFF489276B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774F-98B0-4EF9-AB50-CCC00CC29A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Fantasy and Realit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Grade Reading Ski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and Real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A realistic story could really happen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A fantasy tells about something that could never happen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Look for clues in a story to tell if something could really happen or not.  An animal that talks, acts, and things the way people do tells the reader the story is a fantasy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The sheep told his master that he was ready to be sheared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2510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Jake skated down the street on his skateboard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562720" y="2895480"/>
            <a:ext cx="30351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The stars twinkled in the sky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2451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ntasy or Realit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My dog looked at me and asked for more food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1:58:55Z</dcterms:created>
  <dc:creator> </dc:creator>
  <dc:description/>
  <dc:language>en-US</dc:language>
  <cp:lastModifiedBy> </cp:lastModifiedBy>
  <dcterms:modified xsi:type="dcterms:W3CDTF">2007-09-26T02:08:28Z</dcterms:modified>
  <cp:revision>2</cp:revision>
  <dc:subject/>
  <dc:title>Fantasy and Reality</dc:title>
</cp:coreProperties>
</file>